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move the slide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 Ligh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Quick run through, then, we’ll make one together!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Keynote presentation can be downloaded from my Wikispace.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Exported mp3 file can be read by any mp3 player or software.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Tracks can be added by clicking on the + button in the bottom left of screen.</a:t>
            </a: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1143000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87320" y="8829360"/>
            <a:ext cx="1143000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787320" y="6806880"/>
            <a:ext cx="11430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8732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64416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87320" y="8829360"/>
            <a:ext cx="1143000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1143000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787320" y="8829360"/>
            <a:ext cx="1143000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78732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64416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1920" y="801324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516520" y="801324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787320" y="882936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4651920" y="882936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8516520" y="882936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8732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416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87320" y="8013240"/>
            <a:ext cx="114300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114300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787320" y="6806880"/>
            <a:ext cx="11430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8732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64416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87320" y="8829360"/>
            <a:ext cx="1143000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1143000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87320" y="8829360"/>
            <a:ext cx="1143000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8732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64416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920" y="801324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16520" y="801324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87320" y="882936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51920" y="882936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16520" y="882936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51920" y="801324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516520" y="801324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787320" y="882936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4651920" y="882936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8516520" y="882936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787320" y="8013240"/>
            <a:ext cx="114300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114300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787320" y="6806880"/>
            <a:ext cx="11430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8732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4416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87320" y="8829360"/>
            <a:ext cx="1143000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1143000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787320" y="8829360"/>
            <a:ext cx="1143000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8732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4416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51920" y="801324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516520" y="801324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787320" y="882936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651920" y="882936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516520" y="882936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787320" y="8013240"/>
            <a:ext cx="114300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114300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787320" y="6806880"/>
            <a:ext cx="11430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78732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87320" y="8013240"/>
            <a:ext cx="114300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4416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87320" y="8829360"/>
            <a:ext cx="1143000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1143000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787320" y="8829360"/>
            <a:ext cx="1143000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78732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4416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51920" y="801324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516520" y="801324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787320" y="882936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651920" y="882936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516520" y="882936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114300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87320" y="6806880"/>
            <a:ext cx="11430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8732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87320" y="8013240"/>
            <a:ext cx="114300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416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87320" y="8829360"/>
            <a:ext cx="1143000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1143000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87320" y="8829360"/>
            <a:ext cx="1143000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8732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416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920" y="801324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16520" y="801324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87320" y="882936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51920" y="882936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16520" y="882936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787320" y="8013240"/>
            <a:ext cx="114300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114300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114300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87320" y="6806880"/>
            <a:ext cx="11430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8732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416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87320" y="8829360"/>
            <a:ext cx="1143000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1143000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87320" y="8829360"/>
            <a:ext cx="1143000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8732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416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920" y="801324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16520" y="801324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787320" y="882936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51920" y="882936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16520" y="882936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87320" y="8013240"/>
            <a:ext cx="114300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114300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87320" y="6806880"/>
            <a:ext cx="11430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8732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416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87320" y="8829360"/>
            <a:ext cx="1143000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1143000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87320" y="8829360"/>
            <a:ext cx="1143000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8732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416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920" y="801324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16520" y="801324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787320" y="882936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51920" y="882936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16520" y="882936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787320" y="8013240"/>
            <a:ext cx="114300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114300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787320" y="6806880"/>
            <a:ext cx="11430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8732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416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787320" y="8829360"/>
            <a:ext cx="1143000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1143000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787320" y="8829360"/>
            <a:ext cx="1143000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8732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416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87320" y="6806880"/>
            <a:ext cx="11430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920" y="801324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16520" y="801324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787320" y="882936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51920" y="882936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16520" y="882936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787320" y="8013240"/>
            <a:ext cx="114300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114300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787320" y="6806880"/>
            <a:ext cx="11430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8732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64416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787320" y="8829360"/>
            <a:ext cx="1143000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8732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1143000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787320" y="8829360"/>
            <a:ext cx="1143000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8732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64416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1920" y="801324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516520" y="801324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787320" y="882936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651920" y="882936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516520" y="882936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787320" y="8013240"/>
            <a:ext cx="114300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114300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787320" y="6806880"/>
            <a:ext cx="11430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8732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416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4416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787320" y="8829360"/>
            <a:ext cx="1143000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1143000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787320" y="8829360"/>
            <a:ext cx="1143000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8732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64416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51920" y="801324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516520" y="801324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787320" y="882936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4651920" y="882936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8516520" y="882936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87320" y="8013240"/>
            <a:ext cx="114300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114300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87320" y="8829360"/>
            <a:ext cx="1143000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87320" y="6806880"/>
            <a:ext cx="114300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8732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64416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87320" y="8829360"/>
            <a:ext cx="1143000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1143000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87320" y="8829360"/>
            <a:ext cx="1143000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4160" y="801324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8732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644160" y="8829360"/>
            <a:ext cx="55774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1920" y="801324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516520" y="801324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87320" y="882936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651920" y="882936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8516520" y="8829360"/>
            <a:ext cx="3680280" cy="74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787320" y="8013240"/>
            <a:ext cx="114300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114300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7320" y="8013240"/>
            <a:ext cx="114300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1"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2"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3"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4"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5"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6"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40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79200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319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67220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5143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330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655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02024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384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87320" y="1383840"/>
            <a:ext cx="514368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87320" y="4876560"/>
            <a:ext cx="5143680" cy="3009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3000"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1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2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3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4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5">
              <a:spcBef>
                <a:spcPts val="1199"/>
              </a:spcBef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6">
              <a:spcBef>
                <a:spcPts val="1199"/>
              </a:spcBef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5143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330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655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02024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384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86960" y="1371240"/>
            <a:ext cx="113029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86960" y="4863600"/>
            <a:ext cx="11302920" cy="3009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3000"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1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2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3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4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5">
              <a:spcBef>
                <a:spcPts val="1199"/>
              </a:spcBef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6">
              <a:spcBef>
                <a:spcPts val="1199"/>
              </a:spcBef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73640" y="2768400"/>
            <a:ext cx="5143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330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655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02024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384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40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79200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319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67220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787320" y="1371240"/>
            <a:ext cx="1143000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0028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445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6891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21337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21337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21337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"/>
          <p:cNvGrpSpPr/>
          <p:nvPr/>
        </p:nvGrpSpPr>
        <p:grpSpPr>
          <a:xfrm>
            <a:off x="0" y="0"/>
            <a:ext cx="11836440" cy="6146640"/>
            <a:chOff x="0" y="0"/>
            <a:chExt cx="11836440" cy="6146640"/>
          </a:xfrm>
        </p:grpSpPr>
        <p:pic>
          <p:nvPicPr>
            <p:cNvPr id="455" name="" descr=""/>
            <p:cNvPicPr/>
            <p:nvPr/>
          </p:nvPicPr>
          <p:blipFill>
            <a:blip r:embed="rId2"/>
            <a:srcRect l="0" t="9955" r="0" b="10043"/>
            <a:stretch/>
          </p:blipFill>
          <p:spPr>
            <a:xfrm>
              <a:off x="203040" y="203040"/>
              <a:ext cx="11430000" cy="571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1836440" cy="614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Podcasts in the Classroom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87320" y="8013240"/>
            <a:ext cx="114300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2b0ff"/>
                </a:solidFill>
                <a:latin typeface="Helvetica Neue Light"/>
              </a:rPr>
              <a:t>A short intro in using GarageBand</a:t>
            </a:r>
            <a:endParaRPr b="0" lang="en-US" sz="3100" spc="-1" strike="noStrike">
              <a:solidFill>
                <a:srgbClr val="62b0ff"/>
              </a:solidFill>
              <a:latin typeface="Helvetica Neue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2b0ff"/>
                </a:solidFill>
                <a:latin typeface="Helvetica Neue Light"/>
              </a:rPr>
              <a:t>Get this presentation here: </a:t>
            </a:r>
            <a:endParaRPr b="0" lang="en-US" sz="3100" spc="-1" strike="noStrike">
              <a:solidFill>
                <a:srgbClr val="62b0ff"/>
              </a:solidFill>
              <a:latin typeface="Helvetica Neue Light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9999"/>
                </a:solidFill>
                <a:uFillTx/>
                <a:latin typeface="Helvetica Neue Light"/>
              </a:rPr>
              <a:t>http://renerossignol.wikispaces.com/Teaching+Artifacts</a:t>
            </a:r>
            <a:endParaRPr b="0" lang="en-US" sz="31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0" y="0"/>
            <a:ext cx="11836440" cy="7518240"/>
            <a:chOff x="0" y="0"/>
            <a:chExt cx="11836440" cy="7518240"/>
          </a:xfrm>
        </p:grpSpPr>
        <p:pic>
          <p:nvPicPr>
            <p:cNvPr id="497" name="" descr=""/>
            <p:cNvPicPr/>
            <p:nvPr/>
          </p:nvPicPr>
          <p:blipFill>
            <a:blip r:embed="rId2"/>
            <a:srcRect l="0" t="354" r="0" b="443"/>
            <a:stretch/>
          </p:blipFill>
          <p:spPr>
            <a:xfrm>
              <a:off x="203040" y="203040"/>
              <a:ext cx="11430000" cy="708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1836440" cy="751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87320" y="406440"/>
            <a:ext cx="114300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06440" indent="-406440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o publish their work, students can “export Podcast to Disk...” and save it to a USB drive, CD or even email it to themselves.</a:t>
            </a:r>
            <a:endParaRPr b="0" lang="en-US" sz="36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"/>
          <p:cNvGrpSpPr/>
          <p:nvPr/>
        </p:nvGrpSpPr>
        <p:grpSpPr>
          <a:xfrm>
            <a:off x="0" y="0"/>
            <a:ext cx="11836440" cy="7518240"/>
            <a:chOff x="0" y="0"/>
            <a:chExt cx="11836440" cy="7518240"/>
          </a:xfrm>
        </p:grpSpPr>
        <p:pic>
          <p:nvPicPr>
            <p:cNvPr id="501" name="" descr=""/>
            <p:cNvPicPr/>
            <p:nvPr/>
          </p:nvPicPr>
          <p:blipFill>
            <a:blip r:embed="rId2"/>
            <a:srcRect l="0" t="354" r="0" b="443"/>
            <a:stretch/>
          </p:blipFill>
          <p:spPr>
            <a:xfrm>
              <a:off x="203040" y="203040"/>
              <a:ext cx="11430000" cy="708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1836440" cy="751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787320" y="406440"/>
            <a:ext cx="114300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398160" indent="-398160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elvetica Neue Light"/>
              </a:rPr>
              <a:t>They can choose the compression algorithm that suits them best (quality) and choose an audio setting for their purpose.</a:t>
            </a:r>
            <a:endParaRPr b="0" lang="en-US" sz="3100" spc="-1" strike="noStrike">
              <a:solidFill>
                <a:srgbClr val="62b0ff"/>
              </a:solidFill>
              <a:latin typeface="Helvetica Neue Light"/>
            </a:endParaRPr>
          </a:p>
          <a:p>
            <a:pPr marL="398160" indent="-398160">
              <a:lnSpc>
                <a:spcPct val="100000"/>
              </a:lnSpc>
              <a:spcBef>
                <a:spcPts val="208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elvetica Neue Light"/>
              </a:rPr>
              <a:t>Export. Done.</a:t>
            </a:r>
            <a:endParaRPr b="0" lang="en-US" sz="31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Podcas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Podcasts can be a great way to get students motivated in project based learning initiatives.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ey are a great way for students to express themselves, give information or to present their research to classmates.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ey are also a good way to personalize for specific students who are unable to perform a presentation/oral assessment. 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"/>
          <p:cNvGrpSpPr/>
          <p:nvPr/>
        </p:nvGrpSpPr>
        <p:grpSpPr>
          <a:xfrm>
            <a:off x="0" y="0"/>
            <a:ext cx="8102520" cy="6832440"/>
            <a:chOff x="0" y="0"/>
            <a:chExt cx="8102520" cy="6832440"/>
          </a:xfrm>
        </p:grpSpPr>
        <p:pic>
          <p:nvPicPr>
            <p:cNvPr id="462" name="" descr=""/>
            <p:cNvPicPr/>
            <p:nvPr/>
          </p:nvPicPr>
          <p:blipFill>
            <a:blip r:embed="rId2"/>
            <a:srcRect l="8233" t="0" r="16616" b="0"/>
            <a:stretch/>
          </p:blipFill>
          <p:spPr>
            <a:xfrm>
              <a:off x="203040" y="203040"/>
              <a:ext cx="7696440" cy="639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8102520" cy="683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Getting started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87320" y="2057040"/>
            <a:ext cx="4330800" cy="736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398160" indent="-398160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 Light"/>
              </a:rPr>
              <a:t>Get a good computer like an Apple computer or a Mac ;c)</a:t>
            </a:r>
            <a:endParaRPr b="0" lang="en-US" sz="2600" spc="-1" strike="noStrike">
              <a:solidFill>
                <a:srgbClr val="ffffff"/>
              </a:solidFill>
              <a:latin typeface="Helvetica Neue Light"/>
            </a:endParaRPr>
          </a:p>
          <a:p>
            <a:pPr marL="398160" indent="-398160"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 Light"/>
              </a:rPr>
              <a:t>Apple computers come with the option of getting a software bundle called iLife... get it, it’s worth it!</a:t>
            </a:r>
            <a:endParaRPr b="0" lang="en-US" sz="2600" spc="-1" strike="noStrike">
              <a:solidFill>
                <a:srgbClr val="ffffff"/>
              </a:solidFill>
              <a:latin typeface="Helvetica Neue Light"/>
            </a:endParaRPr>
          </a:p>
          <a:p>
            <a:pPr marL="398160" indent="-398160"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 Light"/>
              </a:rPr>
              <a:t>In this bundle, you will find an application called “GarageBand”. It is a simplified recording software with many cool features. </a:t>
            </a:r>
            <a:endParaRPr b="0" lang="en-US" sz="2600" spc="-1" strike="noStrike">
              <a:solidFill>
                <a:srgbClr val="ffffff"/>
              </a:solidFill>
              <a:latin typeface="Helvetica Neue Light"/>
            </a:endParaRPr>
          </a:p>
          <a:p>
            <a:pPr marL="398160" indent="-398160"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 Light"/>
              </a:rPr>
              <a:t>One of these features is a pre-set Podcast recording option.</a:t>
            </a:r>
            <a:endParaRPr b="0" lang="en-US" sz="2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66" name=""/>
          <p:cNvSpPr/>
          <p:nvPr/>
        </p:nvSpPr>
        <p:spPr>
          <a:xfrm rot="19181400">
            <a:off x="10019880" y="5943240"/>
            <a:ext cx="1778040" cy="736560"/>
          </a:xfrm>
          <a:prstGeom prst="rightArrow">
            <a:avLst>
              <a:gd name="adj1" fmla="val 32000"/>
              <a:gd name="adj2" fmla="val 75872"/>
            </a:avLst>
          </a:prstGeom>
          <a:gradFill rotWithShape="0">
            <a:gsLst>
              <a:gs pos="0">
                <a:srgbClr val="ff8000">
                  <a:alpha val="94117"/>
                </a:srgbClr>
              </a:gs>
              <a:gs pos="100000">
                <a:srgbClr val="ff0000">
                  <a:alpha val="94117"/>
                </a:srgbClr>
              </a:gs>
            </a:gsLst>
            <a:lin ang="1374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"/>
          <p:cNvGrpSpPr/>
          <p:nvPr/>
        </p:nvGrpSpPr>
        <p:grpSpPr>
          <a:xfrm>
            <a:off x="0" y="0"/>
            <a:ext cx="11836440" cy="7518240"/>
            <a:chOff x="0" y="0"/>
            <a:chExt cx="11836440" cy="7518240"/>
          </a:xfrm>
        </p:grpSpPr>
        <p:pic>
          <p:nvPicPr>
            <p:cNvPr id="468" name="" descr=""/>
            <p:cNvPicPr/>
            <p:nvPr/>
          </p:nvPicPr>
          <p:blipFill>
            <a:blip r:embed="rId2"/>
            <a:srcRect l="0" t="0" r="0" b="801"/>
            <a:stretch/>
          </p:blipFill>
          <p:spPr>
            <a:xfrm>
              <a:off x="203040" y="203040"/>
              <a:ext cx="11430000" cy="708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1836440" cy="751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787320" y="406440"/>
            <a:ext cx="114300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06440" indent="-406440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Helvetica Neue Light"/>
              </a:rPr>
              <a:t>When GarageBand loads-up, you will notice that you have four tracks to start with. </a:t>
            </a:r>
            <a:endParaRPr b="0" lang="en-US" sz="1900" spc="-1" strike="noStrike">
              <a:solidFill>
                <a:srgbClr val="62b0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126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Helvetica Neue Light"/>
              </a:rPr>
              <a:t>A Podcast track is for pictures, a male voice track, a female voice track and a jingles track.</a:t>
            </a:r>
            <a:endParaRPr b="0" lang="en-US" sz="1900" spc="-1" strike="noStrike">
              <a:solidFill>
                <a:srgbClr val="62b0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126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Helvetica Neue Light"/>
              </a:rPr>
              <a:t>The male and female voice tracks have slightly different EQ settings.</a:t>
            </a:r>
            <a:endParaRPr b="0" lang="en-US" sz="1900" spc="-1" strike="noStrike">
              <a:solidFill>
                <a:srgbClr val="62b0ff"/>
              </a:solidFill>
              <a:latin typeface="Helvetica Neue Light"/>
            </a:endParaRPr>
          </a:p>
          <a:p>
            <a:pPr marL="406440" indent="0">
              <a:lnSpc>
                <a:spcPct val="100000"/>
              </a:lnSpc>
              <a:spcBef>
                <a:spcPts val="12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471" name=""/>
          <p:cNvSpPr/>
          <p:nvPr/>
        </p:nvSpPr>
        <p:spPr>
          <a:xfrm rot="10743000">
            <a:off x="3949200" y="3327480"/>
            <a:ext cx="1778040" cy="736560"/>
          </a:xfrm>
          <a:prstGeom prst="rightArrow">
            <a:avLst>
              <a:gd name="adj1" fmla="val 32000"/>
              <a:gd name="adj2" fmla="val 75872"/>
            </a:avLst>
          </a:prstGeom>
          <a:gradFill rotWithShape="0">
            <a:gsLst>
              <a:gs pos="0">
                <a:srgbClr val="ff0000">
                  <a:alpha val="94117"/>
                </a:srgbClr>
              </a:gs>
              <a:gs pos="100000">
                <a:srgbClr val="ff8000">
                  <a:alpha val="94117"/>
                </a:srgbClr>
              </a:gs>
            </a:gsLst>
            <a:lin ang="1614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"/>
          <p:cNvGrpSpPr/>
          <p:nvPr/>
        </p:nvGrpSpPr>
        <p:grpSpPr>
          <a:xfrm>
            <a:off x="0" y="0"/>
            <a:ext cx="11836440" cy="7518240"/>
            <a:chOff x="0" y="0"/>
            <a:chExt cx="11836440" cy="7518240"/>
          </a:xfrm>
        </p:grpSpPr>
        <p:pic>
          <p:nvPicPr>
            <p:cNvPr id="473" name="" descr=""/>
            <p:cNvPicPr/>
            <p:nvPr/>
          </p:nvPicPr>
          <p:blipFill>
            <a:blip r:embed="rId2"/>
            <a:srcRect l="0" t="354" r="0" b="443"/>
            <a:stretch/>
          </p:blipFill>
          <p:spPr>
            <a:xfrm>
              <a:off x="203040" y="203040"/>
              <a:ext cx="11430000" cy="708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1836440" cy="751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787320" y="406440"/>
            <a:ext cx="114300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385920" indent="-385920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 Light"/>
              </a:rPr>
              <a:t>To begin recording, select the track you wish to record on and press the red recording button at the bottom of the screen or the R key on the keyboard.</a:t>
            </a:r>
            <a:endParaRPr b="0" lang="en-US" sz="2600" spc="-1" strike="noStrike">
              <a:solidFill>
                <a:srgbClr val="62b0ff"/>
              </a:solidFill>
              <a:latin typeface="Helvetica Neue Light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 Neue Light"/>
              </a:rPr>
              <a:t>Press the spacebar to stop recording</a:t>
            </a:r>
            <a:endParaRPr b="0" lang="en-US" sz="26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476" name=""/>
          <p:cNvSpPr/>
          <p:nvPr/>
        </p:nvSpPr>
        <p:spPr>
          <a:xfrm rot="3398400">
            <a:off x="2413080" y="7759440"/>
            <a:ext cx="1778040" cy="736560"/>
          </a:xfrm>
          <a:prstGeom prst="rightArrow">
            <a:avLst>
              <a:gd name="adj1" fmla="val 32000"/>
              <a:gd name="adj2" fmla="val 75872"/>
            </a:avLst>
          </a:prstGeom>
          <a:gradFill rotWithShape="0">
            <a:gsLst>
              <a:gs pos="0">
                <a:srgbClr val="ff0000">
                  <a:alpha val="94117"/>
                </a:srgbClr>
              </a:gs>
              <a:gs pos="100000">
                <a:srgbClr val="ff8000">
                  <a:alpha val="94117"/>
                </a:srgbClr>
              </a:gs>
            </a:gsLst>
            <a:lin ang="876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"/>
          <p:cNvGrpSpPr/>
          <p:nvPr/>
        </p:nvGrpSpPr>
        <p:grpSpPr>
          <a:xfrm>
            <a:off x="0" y="0"/>
            <a:ext cx="11836440" cy="7518240"/>
            <a:chOff x="0" y="0"/>
            <a:chExt cx="11836440" cy="7518240"/>
          </a:xfrm>
        </p:grpSpPr>
        <p:pic>
          <p:nvPicPr>
            <p:cNvPr id="478" name="" descr=""/>
            <p:cNvPicPr/>
            <p:nvPr/>
          </p:nvPicPr>
          <p:blipFill>
            <a:blip r:embed="rId2"/>
            <a:srcRect l="0" t="354" r="0" b="443"/>
            <a:stretch/>
          </p:blipFill>
          <p:spPr>
            <a:xfrm>
              <a:off x="203040" y="203040"/>
              <a:ext cx="11430000" cy="708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1836440" cy="751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787320" y="406440"/>
            <a:ext cx="114300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06440" indent="-406440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elvetica Neue Light"/>
              </a:rPr>
              <a:t>You can move your newly recorded file by clicking and dragging.</a:t>
            </a:r>
            <a:endParaRPr b="0" lang="en-US" sz="3100" spc="-1" strike="noStrike">
              <a:solidFill>
                <a:srgbClr val="62b0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08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Helvetica Neue Light"/>
              </a:rPr>
              <a:t>Let’s do so to make room for an intro jingle!</a:t>
            </a:r>
            <a:endParaRPr b="0" lang="en-US" sz="31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481" name=""/>
          <p:cNvSpPr/>
          <p:nvPr/>
        </p:nvSpPr>
        <p:spPr>
          <a:xfrm rot="14816400">
            <a:off x="5621040" y="3835440"/>
            <a:ext cx="965520" cy="419040"/>
          </a:xfrm>
          <a:prstGeom prst="rightArrow">
            <a:avLst>
              <a:gd name="adj1" fmla="val 32000"/>
              <a:gd name="adj2" fmla="val 133404"/>
            </a:avLst>
          </a:prstGeom>
          <a:gradFill rotWithShape="0">
            <a:gsLst>
              <a:gs pos="0">
                <a:srgbClr val="ff8000">
                  <a:alpha val="94117"/>
                </a:srgbClr>
              </a:gs>
              <a:gs pos="100000">
                <a:srgbClr val="ff0000">
                  <a:alpha val="94117"/>
                </a:srgbClr>
              </a:gs>
            </a:gsLst>
            <a:lin ang="936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0" y="0"/>
            <a:ext cx="11836440" cy="7518240"/>
            <a:chOff x="0" y="0"/>
            <a:chExt cx="11836440" cy="7518240"/>
          </a:xfrm>
        </p:grpSpPr>
        <p:pic>
          <p:nvPicPr>
            <p:cNvPr id="483" name="" descr=""/>
            <p:cNvPicPr/>
            <p:nvPr/>
          </p:nvPicPr>
          <p:blipFill>
            <a:blip r:embed="rId2"/>
            <a:srcRect l="0" t="354" r="0" b="443"/>
            <a:stretch/>
          </p:blipFill>
          <p:spPr>
            <a:xfrm>
              <a:off x="203040" y="203040"/>
              <a:ext cx="11430000" cy="708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1836440" cy="751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787320" y="406440"/>
            <a:ext cx="114300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06440" indent="-406440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ing on the “Loop Browser” in the bottom right of the screen will open a list of available loops and sound files already in your computer!</a:t>
            </a:r>
            <a:endParaRPr b="0" lang="en-US" sz="36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486" name=""/>
          <p:cNvSpPr/>
          <p:nvPr/>
        </p:nvSpPr>
        <p:spPr>
          <a:xfrm rot="747600">
            <a:off x="9194760" y="8521200"/>
            <a:ext cx="1778040" cy="736920"/>
          </a:xfrm>
          <a:prstGeom prst="rightArrow">
            <a:avLst>
              <a:gd name="adj1" fmla="val 32000"/>
              <a:gd name="adj2" fmla="val 75835"/>
            </a:avLst>
          </a:prstGeom>
          <a:gradFill rotWithShape="0">
            <a:gsLst>
              <a:gs pos="0">
                <a:srgbClr val="ff0000">
                  <a:alpha val="94117"/>
                </a:srgbClr>
              </a:gs>
              <a:gs pos="100000">
                <a:srgbClr val="ff8000">
                  <a:alpha val="94117"/>
                </a:srgbClr>
              </a:gs>
            </a:gsLst>
            <a:lin ang="612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"/>
          <p:cNvGrpSpPr/>
          <p:nvPr/>
        </p:nvGrpSpPr>
        <p:grpSpPr>
          <a:xfrm>
            <a:off x="0" y="0"/>
            <a:ext cx="11836440" cy="7518240"/>
            <a:chOff x="0" y="0"/>
            <a:chExt cx="11836440" cy="7518240"/>
          </a:xfrm>
        </p:grpSpPr>
        <p:pic>
          <p:nvPicPr>
            <p:cNvPr id="488" name="" descr=""/>
            <p:cNvPicPr/>
            <p:nvPr/>
          </p:nvPicPr>
          <p:blipFill>
            <a:blip r:embed="rId2"/>
            <a:srcRect l="0" t="354" r="0" b="443"/>
            <a:stretch/>
          </p:blipFill>
          <p:spPr>
            <a:xfrm>
              <a:off x="203040" y="203040"/>
              <a:ext cx="11430000" cy="708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1836440" cy="751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787320" y="406440"/>
            <a:ext cx="114300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06440" indent="-406440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Helvetica Neue Light"/>
              </a:rPr>
              <a:t>Choose a file and insert it in the “Jingles” track.</a:t>
            </a:r>
            <a:endParaRPr b="0" lang="en-US" sz="2100" spc="-1" strike="noStrike">
              <a:solidFill>
                <a:srgbClr val="62b0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1437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Helvetica Neue Light"/>
              </a:rPr>
              <a:t>GarageBand will automatically lower the volume of the Jingles track when it overlaps another track!</a:t>
            </a:r>
            <a:endParaRPr b="0" lang="en-US" sz="2100" spc="-1" strike="noStrike">
              <a:solidFill>
                <a:srgbClr val="62b0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1437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Helvetica Neue Light"/>
              </a:rPr>
              <a:t>You can have full length background music if you wish or just intro and outro music.</a:t>
            </a:r>
            <a:endParaRPr b="0" lang="en-US" sz="2100" spc="-1" strike="noStrike">
              <a:solidFill>
                <a:srgbClr val="62b0ff"/>
              </a:solidFill>
              <a:latin typeface="Helvetica Neue Light"/>
            </a:endParaRPr>
          </a:p>
        </p:txBody>
      </p:sp>
      <p:sp>
        <p:nvSpPr>
          <p:cNvPr id="491" name=""/>
          <p:cNvSpPr/>
          <p:nvPr/>
        </p:nvSpPr>
        <p:spPr>
          <a:xfrm rot="12082800">
            <a:off x="4876200" y="4813200"/>
            <a:ext cx="1778040" cy="736560"/>
          </a:xfrm>
          <a:prstGeom prst="rightArrow">
            <a:avLst>
              <a:gd name="adj1" fmla="val 32000"/>
              <a:gd name="adj2" fmla="val 75872"/>
            </a:avLst>
          </a:prstGeom>
          <a:gradFill rotWithShape="0">
            <a:gsLst>
              <a:gs pos="0">
                <a:srgbClr val="ff8000">
                  <a:alpha val="94117"/>
                </a:srgbClr>
              </a:gs>
              <a:gs pos="100000">
                <a:srgbClr val="ff0000">
                  <a:alpha val="94117"/>
                </a:srgbClr>
              </a:gs>
            </a:gsLst>
            <a:lin ang="6660000"/>
          </a:gradFill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0" y="0"/>
            <a:ext cx="11836440" cy="7518240"/>
            <a:chOff x="0" y="0"/>
            <a:chExt cx="11836440" cy="7518240"/>
          </a:xfrm>
        </p:grpSpPr>
        <p:pic>
          <p:nvPicPr>
            <p:cNvPr id="493" name="" descr=""/>
            <p:cNvPicPr/>
            <p:nvPr/>
          </p:nvPicPr>
          <p:blipFill>
            <a:blip r:embed="rId2"/>
            <a:srcRect l="0" t="354" r="0" b="443"/>
            <a:stretch/>
          </p:blipFill>
          <p:spPr>
            <a:xfrm>
              <a:off x="203040" y="203040"/>
              <a:ext cx="11430000" cy="708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1836440" cy="751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87320" y="406440"/>
            <a:ext cx="1143000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06440" indent="-406440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s is an example of student work from FHS last Fall.</a:t>
            </a:r>
            <a:endParaRPr b="0" lang="en-US" sz="36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